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EA0-CAE2-4411-86C1-EBD90C70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3F1-1566-41A4-ADCE-91FB2C4C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BC1-2B26-49B0-B384-D35AC91D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5AC-53D9-429E-946A-C9E88543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C6D-1898-4D8E-8993-1C8584C9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302-6E4E-4186-865D-49D78192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A8B-ED6C-45F8-B4A0-B2147412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B59-D4B2-4F30-9F99-376DB8D1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7E9-97DD-4DCB-B6BB-F82E7114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B87-4F20-4CF5-9332-76AD7917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646-8FC4-42E4-A7E8-B4A43584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C26-A4DC-45A0-ACCE-1D56DFA6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F114-97AE-47DB-B516-01889359A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7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666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990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3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use balanced equations to help us find out how many moles of substances there are in a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438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ith a balanced equation, we can also find out a ratio of one substance to anoth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352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20 mol of Cu and 10 mol of S –2 to 1 ratio of Cu to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886200"/>
            <a:ext cx="7467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 List the mol ratio for the balanced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 +  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0292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l of H for every 1 mol of N produces  2 mol of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ing Re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193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a reaction, an insufficient quantity of any of the reactants will limit the amount of the product that form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9051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real life:  having only 1 cup of milk for your repcipe when you need three…the milk limits how much your recipe will 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0481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miting reagent: reagent that determines the amount of product that can be formed by a rea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3962520"/>
            <a:ext cx="6400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action occurs until the limiting reagent is use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figure 12.10 pg. 3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ss reagent:  the reagent that is not used up in a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295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of a limiting reagent, some reagent is left over, and it is ex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819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sts often try to predict how much product will be formed when a reaction will tak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733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ercent yield can be calculated by dividing the actual yield (how much was formed) divided by the theoretical yield (the maximum amount that could have been m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9528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ercent yield really is the measure of how efficient the reaction carried ou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4:17:27Z</dcterms:created>
  <dc:creator>jpak</dc:creator>
  <dc:description/>
  <dc:language>en-US</dc:language>
  <cp:lastModifiedBy>jpak</cp:lastModifiedBy>
  <dcterms:modified xsi:type="dcterms:W3CDTF">2008-01-07T14:39:40Z</dcterms:modified>
  <cp:revision>7</cp:revision>
  <dc:subject/>
  <dc:title>Note guide 7-3</dc:title>
</cp:coreProperties>
</file>